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3447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4419360" y="0"/>
            <a:ext cx="33447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397160" y="761760"/>
            <a:ext cx="497016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066680" y="4800600"/>
            <a:ext cx="56311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441936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41A21-3A39-4439-8846-821DF80F9361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2B278-59D4-421F-A836-3AE710F64071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C287E-5588-4D24-B5CE-984AD945D2CC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89D4D-B24D-4C77-AD14-4881CBDD074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0DC88-62BF-4BCE-B214-B422A4C4179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8C20B-EB83-4B76-B4D2-487BB944421E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899B2-994F-4E9D-8E35-B6765ACD3329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5DC31-5131-4C2F-82D5-4D4C804A71A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A519C-8E07-4526-889F-FEC6BB22E16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397160" y="762120"/>
            <a:ext cx="4976640" cy="37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04954-59E6-4AC7-B560-523C18BD7156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AB8F5-76EA-473A-8672-638D88BB28F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5A35E-4E04-49CB-A8FB-08BD1F8B9A0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1D049-F8DB-4A0F-A359-F38BE1E73DE0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AF18D-B3C4-449A-A738-35B10FA1F340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92377-A6E3-495A-88F6-10F075FBE501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1657F-34E3-485B-B50A-0534B05DE95F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71C92-42C3-4E40-905C-1763E410941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1C513-AD4D-4E91-869A-F45BD8037A6A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CB866-ADC9-401F-999F-EFAC9140130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5570D-277C-41C5-852C-663D717B00BF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397160" y="762120"/>
            <a:ext cx="4976640" cy="37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8BCEF-5E4F-4504-B52F-79B4A8D6AD14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5DDB3-5106-4660-98C4-EC1D18FEB4D9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371600" y="763560"/>
            <a:ext cx="501156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F9D60-106B-4FB6-8DB1-3E3597FE432B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E3592-705F-4324-917B-13E2440B93FA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371600" y="763560"/>
            <a:ext cx="501156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A857B-7381-4145-ADC9-97AAE5E70ED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397160" y="762120"/>
            <a:ext cx="49734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FC4F0-36FF-4492-AC81-61897800221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1371600" y="763560"/>
            <a:ext cx="501156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24D30-0F8F-4D67-9D79-27EB71C9E83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397160" y="762120"/>
            <a:ext cx="49734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186B8-889E-4584-80E3-64B0F03F3EF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1371600" y="763560"/>
            <a:ext cx="501156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D941F-3A5C-4E00-9C49-C5FFEBE4EACA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4C612-E19F-4843-AFDC-1915CEF7A51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B9D16-9761-4428-849D-ABFA2EC937BB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7AA85-FE94-4BEC-B87B-D63E8BC39DA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77FAA-E625-4488-93A2-CA98DD59AF8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612B5-B18E-47B6-998B-A4A9AC352FCE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359D6-EBEA-4D1A-8ECD-30FF3B374E6C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CA25A-478B-4C59-A796-CAA88C5EA7B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105C-8367-4D9C-9634-53539AE49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904248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919040"/>
            <a:ext cx="904248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96B0-607F-4669-B01B-BDFC1F0F3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91904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0760" y="491904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DE29-4D58-4649-9675-CC3C31F3B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4320" y="232740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1800" y="232740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91904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4320" y="491904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1800" y="491904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7ACF-0764-4046-A1D9-8DF2A1E300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27400"/>
            <a:ext cx="9042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20B6-758E-4239-937C-F980CBFF2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9042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84D5-6FBF-47C5-AE1E-28BF9E1BC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4D53-11F3-4406-916D-530E0C00A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5970-6374-445F-A5C3-895E1F215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440" y="1274760"/>
            <a:ext cx="90424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C280-AF25-4744-BCBE-AE59505E1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91904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E410-A0C1-4120-8103-6F9BE5F58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0760" y="491904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AF66-7610-440B-92B2-20F4BE95C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919040"/>
            <a:ext cx="904248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3189-C2CA-433D-9E56-B0F583A98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27400"/>
            <a:ext cx="9042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5760" y="6932160"/>
            <a:ext cx="3166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7360" y="6886080"/>
            <a:ext cx="23194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B6ADC-23DC-4EF0-B23C-8B64BF5A5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488880" y="419040"/>
            <a:ext cx="9078840" cy="693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519120" y="2160720"/>
            <a:ext cx="9047160" cy="3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1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"/>
          <p:cNvSpPr/>
          <p:nvPr/>
        </p:nvSpPr>
        <p:spPr>
          <a:xfrm>
            <a:off x="1143000" y="2743200"/>
            <a:ext cx="77724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TFS for Embedded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ierre And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 16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8760" y="1255320"/>
            <a:ext cx="906948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named data stream : the usual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data streams (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properties of the file (author, summary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attributes for user o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torage modes for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the root of the file (small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ed, 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8760" y="1317600"/>
            <a:ext cx="906948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irectories and special files (eg A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s the number of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ll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rocess case-sensitive and case-insensitive keys in the sam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1271520"/>
            <a:ext cx="906948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to the user o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Z77 algorithm (akin to z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compression level (about one half for plain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 not stored (sparse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acts independently on fixed size blocks (4096 bytes) stored by groups of 16 uncompressed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any location without decompress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for slow devices and limite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rs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efining some processing for accessing a file/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to a volume defined as a devic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to a directory defined as a device address to th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d on th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links (since 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to a directory o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or rel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d on 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4600" y="1319040"/>
            <a:ext cx="906948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to the user, afte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pplied to all stream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encrypted with a symmetr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encrypted with public keys of each allowed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9120" y="141264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Control (AC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L for each file defines which users are allowed to access the file, and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or group is identified by a 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 S-1-5-21-3141592653-589793238-462643383-1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ccess mode is identified by a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 read, append, execute, read extended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ACE to be processed in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CL is a list of 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CE is a (user, mode)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s may be defined as inherited from paren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7080" y="1273320"/>
            <a:ext cx="9048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actions (aka journall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327400"/>
            <a:ext cx="90486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keep storage integrity despite comm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lean unmounting (pulling the USB 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action is processed as a transactiona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file, a directory, changing the prote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internal action an undo/redo record is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le : update directory, update index, update bitmap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action is committed when the set of user actions is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ounting, the unfinished transactions are un/re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do not protect against hardware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ility to recover damag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ensitive data are du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t, MFT, A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wanted deletion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ot inode may be identified and revali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uster allocation table is specific p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wanted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odes and allocation tables may b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wanted re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partition beginning has to be re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commercial recover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1360" y="1317600"/>
            <a:ext cx="906768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 - NTFS-3G, curren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rs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080" y="131904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300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FS-3G is an open implementation of NT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enerally relies on 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: an OS plugin to hijack file system calls to a user-mode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mpiled for 32-bit or 64-bit 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upport for both endian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ed to numerous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inux), MacOS X, FreeBSD, Solaris, etc. (through FUSE or l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systems (FUSE or direct into the 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nteroperable with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23012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s for Windows storage 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-attached Storage devices (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entertainment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top boxed, IPTV, DTV, audio/video players and recorders, gam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-boot solutions: Linux based systems on 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-on-a-chip (SoC) solutions, with a dedicated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ing 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, forensics, intelligence, military, data collecto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ored locally and processed later on Windows or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612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x conform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156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unctions : read, write, directory list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F-8 fi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links, symbolic links, pipes, devi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: modification, access, attribu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ship and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7080" y="131904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300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upport for compressed file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d appending to fil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se compressed fil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writing not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1240" y="127152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rs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300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points and symlinks made to appear as symbolic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es and device letter not directly 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first searched as a mount file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defined, target searched in current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with case in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d for use with case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080" y="131904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359080"/>
            <a:ext cx="90630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backup/restore without decry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pport for encrypting/decry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7080" y="131904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300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Ls are approximated to Posix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x for owner, group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x ACL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s and groups have to be mapped explici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 to uid/gi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s to new files are set according to umask or Posix type inheri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Windows-like inheritance on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access flags emulated (sticky, setuid, setg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612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l NTF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156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set data not reachable by Posix-typ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attributes (readonly, hidden, system, archiv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r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FS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(100ns resolution, incl creation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S Info (table of encrypted encryption ke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7080" y="1273320"/>
            <a:ext cx="9048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2327400"/>
            <a:ext cx="90486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yet, not perceived as a priority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iring is enough for most users, more reliably than on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+hardware have to guarantee sequence points (“barrier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w writes until all previous writes have been sec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dering of writes between sequence points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with all 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currently on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lean unmount is detected at next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ed to run an integrity fi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tprint and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KB code per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KB shared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0KB heap (per m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KB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532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536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L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as a standard package in most Linux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ora, Ubuntu, Suse, Debia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have signed an agreement with Tuxera for dual 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3012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 - Tuxera NT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native read/write kernel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NTFS-3G, developed by sam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for high-performance and embedde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memory &amp; CPU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threaded, reentrant, SMP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portable, wide CPU and kernel ver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532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NTF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327400"/>
            <a:ext cx="905364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storage needs an interoperable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plugged elsewhere for furth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devices are being formated as NTFS from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has been FAT32, but it is phas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GB max file size (no DVD r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nefficient for large storage (no bitmap, btre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32GB SD card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set, and fixed-siz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7440" y="1273320"/>
            <a:ext cx="90453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xer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457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urc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reverse engineered NT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re developing and maintaining the Linux kernel driver, ntfsprogs, the Linux-NTFS and NTFS-3G open source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experienced in technology &amp; intellectual propert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, licensing, patents, anti-competition, OEM, embedde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532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xera NTFS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536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or better than popular Linux fi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copy, direct 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ing internal copies and cach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large and small block siz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 specific operation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ode : no cacheing of larg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ode : cacheing, except O_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7440" y="1273320"/>
            <a:ext cx="90453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2327400"/>
            <a:ext cx="90457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035000" y="2219400"/>
            <a:ext cx="7790040" cy="51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532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xera licen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536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-core, dual-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MySQL, Berkeley DB, QT, Asterix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licensing, and compatible with working on ope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 is a key to softwar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123012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l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xera signed an exFAT intellectual property agreement with Microsoft (Aug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FAT is another file system promoted by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xera signed an interoperability alliance agreement with Microsoft (Aug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alliance to share information on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working with Microsoft on clarifying NTFS leg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year of discussions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known NTFS IP violation in Tuxera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xera is actively participating and financially supporting legal entities to fight for Free Software and against anti-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9120" y="1412640"/>
            <a:ext cx="9066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90662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2040" indent="-662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FS-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1680" indent="-55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ntfs-3g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2040" indent="-662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NTFS-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1680" indent="-55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agesperso-orange.fr/b.an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2040" indent="-662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x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1680" indent="-55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uxer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1680" indent="-55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uxera.com/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2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1316160"/>
            <a:ext cx="9070920" cy="7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TFS main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2664000"/>
            <a:ext cx="90709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capacity up to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map for allocator, Btree for ind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fragmentation and seek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for common 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2, Win32 and Unix by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, encryption, spars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8760" y="1368000"/>
            <a:ext cx="906948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600" y="26636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FS designed ca 1985 for OS2 by IBM and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eused by Microsoft with apparent input from V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1.x from NT 3.1 mid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1.2 : compression, named stream,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3.0 in Win2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ing, quota, encryption, sparse files, repars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3.1 in WinXP up to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links, transactional NT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off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generations of GPLed development on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, led by Martin von Löwis (first release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-ntfs, led by Anton Altaparmakov (first release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fs-3g, led by Szabolcs Szakacsits (first release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x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fers ported to other platforms, and embedd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9120" y="141264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- NT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of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FT record + variable siz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information (times, vers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of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ship and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stored the same way as ordinary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FT, bitmap, boot, bad sector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255 chars (ISO 10646 UTF16LE : any mix of langu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32 and DOS : case insensitive, a few forbidden ch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x : cas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al file defines the lower to upper c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defined to support a non-standard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links and short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reserved file names in the roo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first character is a '$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5:11:15Z</dcterms:created>
  <dc:creator>Linux </dc:creator>
  <dc:description/>
  <dc:language>en-US</dc:language>
  <cp:lastModifiedBy>Klaas van Gend</cp:lastModifiedBy>
  <dcterms:modified xsi:type="dcterms:W3CDTF">2009-10-16T08:41:56Z</dcterms:modified>
  <cp:revision>2</cp:revision>
  <dc:subject/>
  <dc:title>Aucun titre de diapositive</dc:title>
</cp:coreProperties>
</file>